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Enhance classroom discourse through effective questioning with PL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Engage students to work with teachers to improve classroom dis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urpose of the next slides are to present general guiding questions and describe some of the ways  they deepen student th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se questions are all designed to push student to think- Garner's list (Question stri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sense do you make of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good questions can you think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part do you know for su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par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notice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kind of pattern do you not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ow would you explain this in your own wor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omeone young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did you understand the question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understand by the dire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f you did know, what would you s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wish was eas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e examples of effective discourse strategies and consider how to implement them in your own classroom in the f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strategies do you use to encourage or enhance classroom discourse in your classroo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strengths and weaknesses of the strategies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Read your assigned section of the Discourse Primer article and prepare to report back to you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Record your notes on Discourse Primer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Questions  can be used to find out what students know (so you know what you have to do to help them) or to help them th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sk more questions to help learners th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eachers spend 35-50% of teaching time posing questions, or about 100 questions per hour.  Teachers ask 300-400 questions per day, the majority of which are low-level cognitive questions (60% recall, 20% procedural) versus open-ended, inquiry questions (research cited in Hattie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nvolve students more in asking their ow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Refrain from being the arbiter of right &amp; w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Give learners a brief time to think and/ or talk with a peer before inviting responses.  Give 3-5 seconds.  Most teachers give 1 second or less (Wiliam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f a student says “I don’t know”, say you’ll go back to them after 2 more people; if they say they still don’t know, ask them to state their favorite response from the others and tell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Good teaching is more a giving of right questions than a giving of right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Josef Al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7FE96-BF0A-4EF6-90C6-646D5386A3A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BE8E2-C3E9-48C8-B27B-48BCBF7F956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317640-8AFF-4870-8D93-36A1B65D39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0C1FF3-6F7F-4031-BD38-DA1CBD8273E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381E8C-7C50-42BD-82D4-A3761E8ED69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7CE06-B96C-45D7-8520-A869D8A5027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D9EC8-AD32-442B-9249-3D17AC2E017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FBB0AB-057A-4DF9-93CD-2170B69DA37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5AA2DE-5D64-4841-B9FD-DE704A5A15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B23B3-321C-4FE1-8218-27E9F3C23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2025F-DB5B-4F0A-82A3-5185BC4438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DC8DA-82ED-4FC8-A0E5-DBBE9A7ACAE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86BA7-A987-4905-86EB-A5541E0D529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6EF20-BC66-477C-A192-EBBD97E780B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0424A-2B67-4F85-ACC7-737E4779AD3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9EBA3-71FD-4440-B448-FD47CD18CB6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CB669-2C15-432F-94C9-AD1DF9614B3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58427-402D-4391-A5C8-DCCE9F1F1B8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E5F14-7B67-4AB0-8087-7A2EE1DF69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F2ACD-B9C5-435A-8690-E5EFE4B09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544F9-882C-4342-9BAB-A4E9A4E52FC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504C-383E-4B9E-BE38-09CE2EF48B7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FC39-7993-49C0-8773-3C53F23AE4C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A87F-3EC9-4621-AA2B-C8D6057DDF4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5003-1FD9-4E5A-8544-7B4CA09E4D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0D94-046F-46E0-9DEB-86BF77055C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1E49-230D-4E3D-951F-317426B0025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8D71-2E4E-4110-AEEA-3C98957722A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0EBA-24EE-44AF-80A8-0FE34B1BFA3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DBD8-E8EC-4970-9F96-20D10E7C7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E2F8-A863-4844-B35D-33BCA380C66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5246-2540-4EA0-804F-16F6EF653CC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2321-EDF6-41C5-A5D9-674D98CD6B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6C5D-1191-4737-9344-7EFDFA69DB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BE4A-28DA-4B26-ABED-4D5BAD3015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909A-ACA2-4EB8-9CAD-B3CEAE443F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54AF-EC8A-493D-AA74-3E56BFE9D7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8EE4-80EE-4988-A37C-6C527D5457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9F4C-984B-497C-897B-4229E94B84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5007-C3F7-4BEE-907B-F5DEB2FE5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5542-1F0E-4589-89AC-9671B75270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B776-28BF-4823-81C5-12771635BA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9312-5C96-4431-9B7F-9FD235339E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E2D9-0C75-4302-A1AA-EF0CE2A8C7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68FF-A153-4C19-A8F3-F20E838791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41E9-9B4D-4294-853E-4CF6A52F74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0F28-3B3A-468E-A566-A14C240F1C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29CC-A250-44BE-809A-03AA7C7A10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FB43-E2D7-4C91-ACB9-DA593999D1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9021-47FB-4F82-B6B6-A319EDADA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4D3A-551C-4287-B2F0-41A6CCED38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9E54-B016-45E0-9AD8-5C1E078DFE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98F8-18AE-44BE-A0F2-242FC74A56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309E-7BE0-4404-A906-080F199D3A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EE31-D2D9-490D-92B1-AB80995284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C879-E1C2-4D23-974D-F9CD1C5932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E519-F3DA-4C9B-BEB3-FE58B9C3B6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B4A-A2C1-4D21-85A3-567FAD4D90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400-6741-45C4-B6B7-00191FB26B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5D4-0C0E-4BF0-A284-867D5AC4E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716-DE59-4948-A5EF-16EE613C69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FED-4286-460D-98EA-0B41DBF369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9E0-D2F6-4D58-B33A-0502FEBB68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1C2-6791-43B6-8419-8D3CE39322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E1F-65E1-4434-88BF-C31E1FE9AA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48E-CC88-4E01-A6CE-B18A5AAEC7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A0A-83FD-48CF-A72D-D683B599CD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5C6-665C-434A-A014-45D68AE053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8CB-F5F2-4823-9FF9-3888BAE2B7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67454-64A2-41AB-9B8B-4E9E98FF90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60B9C-9FD8-43FB-BEE3-BA6D68ED594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20CA1-2DC3-4DA7-99CC-55D827FDF7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0927A-73B8-4B5B-8C2D-5DE1EA6C4B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4CD02-572C-41CC-B272-AAB6F5A970C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83008-98F3-467B-8B27-4AD3BA257C4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5744E-CB6D-4D1A-8D08-77E3104386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35940-3171-4CF7-82D6-49EB47437C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EF952-2CEA-4BE4-B7A7-BE04E4AF4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40523-2653-4D65-B65B-309816051B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AF580-363C-4688-8796-475C72033F3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B1184-BEBA-44DB-84D9-B6972BE0FCB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664C6-8EE1-4B83-B3F3-7880F6BD59C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9DA72-1876-44F2-B526-CA8F940B677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ACD58-31EB-4419-BAF7-0F4292FD978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63187-06F4-4C32-9013-D30727A6E6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8305A-1852-429F-923C-C599049CCD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B3558-C804-4C01-91D3-EDCAA7BAEB3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BD562-7297-4BC2-B116-DDD69AD3F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6BB36-73A4-4C5E-9E75-AF319E09CC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607FB-DCE4-4843-A55E-0118502FEAE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3A0F4-FC98-438E-A792-6AFEFCBCC66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E3CB2-8EFE-4D65-850B-A6C526FA8B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411C1-7ED5-4E15-88BF-589412DB08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8AC1-4FFB-4DE7-A04A-5186306316B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5389-BC04-4E0F-8C7F-C91957C9A12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AEB0-E411-4376-AF9F-84ADC72DFA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AC20-19AB-44BA-B10E-2270400AB1F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7CBB-65C2-4CE0-BCB0-6E3C4E291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9C3D-2D5C-46A9-8467-8F45FA594CF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2E01-8277-49CB-A5D0-C594D281D08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6D59-5FA7-4070-BE2F-D2E0290B509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4107-D604-4CFB-A625-943922AF93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DC37-F51C-4B86-92C0-30EEE616B1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421F-77CF-4C92-9EA7-334658E81E2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0877-7320-418A-AE0F-8744CF62308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C34DF-3B71-4527-8CCD-6358143C964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9E7E4-55E4-463E-8355-601D71A1954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44272-052E-48F7-B372-A916CA94E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8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4058-1DCA-4B1A-9E6B-A516FBBB62DA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9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26D6-1603-44E4-BB9B-9E6966AA8EC3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C791-8D0C-4BF8-A90A-18737F511EBD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634A-0ED2-4CF7-B4DC-C062101136D5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EF16-92C5-4353-921A-FFDEA96B5C7C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4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5C69-F13B-4822-B597-253B359689E6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5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0484-E66B-47CB-8997-76C2DA34E397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6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AC60-CC73-4D38-B8F6-681AE50F2E2E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7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697-8154-472E-BA6D-4EFF092C6397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7647120" cy="107316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7493040" y="151920"/>
            <a:ext cx="5029200" cy="678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Enhance classroom discourse through effective questioning with PLC suppor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3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Engage students to work with teachers to improve classroom discours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06C7-6F14-4244-95AD-272BEBA11404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863640" y="647640"/>
            <a:ext cx="5575320" cy="8458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7581960" y="3035160"/>
            <a:ext cx="4673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Guiding Question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0999-75C1-4923-92CB-96F2F81D266B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6120" y="1531800"/>
            <a:ext cx="1074420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sense do you make of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good questions can you think o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part do you know for sur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part do you underst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notice?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kind of pattern do you no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How would you explain this in your own wor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someone young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did you understand the question to 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understand by the direc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If you did know, what would you s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wish was easi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09960" y="507960"/>
            <a:ext cx="6985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Guid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5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Resources for Breakout Sessions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 sheets by Lori’s des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8336-9CD3-44DA-9AF4-BB4DEA95E67A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6464160" y="4533840"/>
            <a:ext cx="4381560" cy="43815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2298600" y="3784680"/>
            <a:ext cx="2971800" cy="37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1319-96DB-4B75-8C7A-D9FADC8A5C4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298600" y="-1854360"/>
            <a:ext cx="7696440" cy="76964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47640" y="3670200"/>
            <a:ext cx="1170936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 examples of effective discourse strategies during the content immersion and consider how to implement them in your own classroom in the f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13195440" cy="990612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279000" y="355320"/>
            <a:ext cx="10210680" cy="975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strategies do you use to encourage or enhance classroom discourse in your classrooms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strengths and weaknesses of the strategies you use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2547440" cy="69724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427480" y="417600"/>
            <a:ext cx="81374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</a:rPr>
              <a:t>http://tools4teachingscience.or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755800" y="7797960"/>
            <a:ext cx="577872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Discourse Tools and Vid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269720" y="575280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llow the protocol for the article and share your ideas with your table group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905120" y="668160"/>
            <a:ext cx="8229600" cy="49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7815-C85D-44C2-BE22-A0582E042601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868280" cy="104014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492360" y="749160"/>
            <a:ext cx="688356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How will your PLC support you as you embed these ideas of discourse into your classroom prac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825480" y="2743200"/>
            <a:ext cx="1170936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 can be used to find out what students know (so you know what you have to do to help them) or to help them thi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k more questions to help learners thi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2044800" y="596880"/>
            <a:ext cx="9118440" cy="2108160"/>
          </a:xfrm>
          <a:prstGeom prst="roundRect">
            <a:avLst>
              <a:gd name="adj" fmla="val 9032"/>
            </a:avLst>
          </a:pr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60440" y="584280"/>
            <a:ext cx="8712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Bold"/>
                <a:ea typeface="Calibri Bold"/>
              </a:rPr>
              <a:t>Engineering Effective Discussions, Questions, and Learning Tasks that Elicit Evidence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044800" y="596880"/>
            <a:ext cx="9118440" cy="2108160"/>
          </a:xfrm>
          <a:prstGeom prst="roundRect">
            <a:avLst>
              <a:gd name="adj" fmla="val 9032"/>
            </a:avLst>
          </a:pr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31840" y="2997360"/>
            <a:ext cx="915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Teachers spend 35-50% of teaching time posing questions, or about 100 questions per hou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Teachers ask 300-400 questions per day, the majority of which are low-level cognitive questions (60% recall, 20% procedural) versus open-ended, inquiry questions (research cited in Hattie, 2009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60440" y="584280"/>
            <a:ext cx="8712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Bold"/>
                <a:ea typeface="Calibri Bold"/>
              </a:rPr>
              <a:t>Engineering Effective Discussions, Questions, and Learning Tasks that Elicit Evidence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110B-A11F-4855-A6A7-8853B35612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47640" y="29592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nvolve students more in asking their own ques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Refrain from being the arbiter of right and wro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Give learners a brief time to think and/ or talk with a peer before inviting responses.  Give 3-5 seconds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teachers give 1 second or less (Wiliam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f a student says “I don’t know”, say you’ll go back to them after 2 more people; if they say they still don’t know, ask them to state their favorite response from the others and tell wh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/>
          <p:nvPr/>
        </p:nvSpPr>
        <p:spPr>
          <a:xfrm>
            <a:off x="2044800" y="596880"/>
            <a:ext cx="9118440" cy="2108160"/>
          </a:xfrm>
          <a:prstGeom prst="roundRect">
            <a:avLst>
              <a:gd name="adj" fmla="val 9032"/>
            </a:avLst>
          </a:pr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55880" y="520560"/>
            <a:ext cx="910584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Bold"/>
                <a:ea typeface="Calibri Bold"/>
              </a:rPr>
              <a:t>Engineering Effective Discussions, Questions, and Learning Tasks that Elicit Evidence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47640" y="2730600"/>
            <a:ext cx="11709360" cy="94996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ood teaching is more a giving of right questions than a giving of right answers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sef Al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